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255-6DE3-46C4-A910-DEB4B12E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266-A196-4F77-8369-1DFC7D17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ACA-D1A6-4390-903C-C83A92E4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A4C-756A-4E20-8BA2-1E947EF1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B8C-8CBA-4C8F-8C90-E1BAF689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62F-791A-4EB0-9F9E-20A8EE4D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6DB-1F7A-4535-96E4-0CFBBEAC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77D-9EC8-4918-B1B7-FCA5645D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CD7-D069-4ABD-8737-F19FDA0D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E29-0C5D-4EA8-80A0-38EA5BA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C94-0233-48C3-967F-1CAAB30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AC4-F41F-424F-BBA3-48BC47B9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466CC-DAC5-4B2C-8D68-8321ACB5D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8266 Tutori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Web server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nit.lua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1768320"/>
            <a:ext cx="75898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ace (“Your_SSID”,”Password”), then click “OPEN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27040" y="1736640"/>
            <a:ext cx="6950160" cy="4873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54120" y="3311640"/>
            <a:ext cx="3089160" cy="274680"/>
          </a:xfrm>
          <a:prstGeom prst="roundRect">
            <a:avLst>
              <a:gd name="adj" fmla="val 579"/>
            </a:avLst>
          </a:prstGeom>
          <a:noFill/>
          <a:ln w="5472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75080" y="3363840"/>
            <a:ext cx="549360" cy="201600"/>
          </a:xfrm>
          <a:prstGeom prst="roundRect">
            <a:avLst>
              <a:gd name="adj" fmla="val 792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97720" y="1189080"/>
            <a:ext cx="1800" cy="914400"/>
          </a:xfrm>
          <a:prstGeom prst="line">
            <a:avLst/>
          </a:prstGeom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476640" y="6126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Reset ES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2240" y="1305000"/>
            <a:ext cx="8548920" cy="4456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92960" y="6597720"/>
            <a:ext cx="1200240" cy="352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578560" y="6765840"/>
            <a:ext cx="7318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475080"/>
            <a:ext cx="2925720" cy="1006560"/>
          </a:xfrm>
          <a:prstGeom prst="roundRect">
            <a:avLst>
              <a:gd name="adj" fmla="val 157"/>
            </a:avLst>
          </a:prstGeom>
          <a:noFill/>
          <a:ln w="5472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0280" y="9144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 Connectio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GPIO0 To G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75080" y="2185920"/>
            <a:ext cx="3200400" cy="3924360"/>
          </a:xfrm>
          <a:custGeom>
            <a:avLst/>
            <a:gdLst>
              <a:gd name="textAreaLeft" fmla="*/ 360 w 3200400"/>
              <a:gd name="textAreaRight" fmla="*/ 3200040 w 3200400"/>
              <a:gd name="textAreaTop" fmla="*/ 360 h 3924360"/>
              <a:gd name="textAreaBottom" fmla="*/ 3924000 h 3924360"/>
            </a:gdLst>
            <a:ahLst/>
            <a:rect l="textAreaLeft" t="textAreaTop" r="textAreaRight" b="textAreaBottom"/>
            <a:pathLst>
              <a:path w="21600" h="26486">
                <a:moveTo>
                  <a:pt x="10" y="0"/>
                </a:moveTo>
                <a:arcTo wR="10" hR="10" stAng="16200000" swAng="-5400000"/>
                <a:lnTo>
                  <a:pt x="0" y="26476"/>
                </a:lnTo>
                <a:arcTo wR="10" hR="10" stAng="10800000" swAng="-5400000"/>
                <a:lnTo>
                  <a:pt x="21590" y="26486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278080"/>
            <a:ext cx="1736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XD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XD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GPIO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PIO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2314440"/>
            <a:ext cx="1736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05640" y="2363760"/>
            <a:ext cx="1736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3.3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3.3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10960" y="2460600"/>
            <a:ext cx="1282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10960" y="3000240"/>
            <a:ext cx="12826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10960" y="4729320"/>
            <a:ext cx="1282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010960" y="5845320"/>
            <a:ext cx="1282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65840" y="3649680"/>
            <a:ext cx="10065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65840" y="591804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8400" y="2278080"/>
            <a:ext cx="1737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10960" y="4152960"/>
            <a:ext cx="1282680" cy="1440"/>
          </a:xfrm>
          <a:prstGeom prst="line">
            <a:avLst/>
          </a:prstGeom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549720" y="5851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“Save to ESP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6560" y="1279440"/>
            <a:ext cx="8321760" cy="427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49760" y="4297320"/>
            <a:ext cx="2925720" cy="549360"/>
          </a:xfrm>
          <a:prstGeom prst="roundRect">
            <a:avLst>
              <a:gd name="adj" fmla="val 287"/>
            </a:avLst>
          </a:prstGeom>
          <a:noFill/>
          <a:ln w="5472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40480" y="6308640"/>
            <a:ext cx="14144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61080" y="649296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“=wifi.sta.getip()”, then Click “Sen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4400" y="1563840"/>
            <a:ext cx="6313320" cy="5019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9840" y="5029200"/>
            <a:ext cx="2286000" cy="365040"/>
          </a:xfrm>
          <a:prstGeom prst="roundRect">
            <a:avLst>
              <a:gd name="adj" fmla="val 431"/>
            </a:avLst>
          </a:prstGeom>
          <a:noFill/>
          <a:ln w="5472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856560" y="1279440"/>
            <a:ext cx="1374480" cy="4846680"/>
          </a:xfrm>
          <a:prstGeom prst="line">
            <a:avLst/>
          </a:prstGeom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P address is shown, then Goto brows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4800" y="1646280"/>
            <a:ext cx="9356760" cy="397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8120" y="612612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E! Enjoy ;-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8266 Tutorial (As Web serv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 . Updating Firmware NodeM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nnectio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ocedure (Using Flas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. Using ESPlo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nnectio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ow to Reset E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ave to E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ample Program (As Web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 Firmware NodeM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nnection Diagram(Using USB-to-UART conver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75080" y="2835360"/>
            <a:ext cx="3200400" cy="3924360"/>
          </a:xfrm>
          <a:custGeom>
            <a:avLst/>
            <a:gdLst>
              <a:gd name="textAreaLeft" fmla="*/ 360 w 3200400"/>
              <a:gd name="textAreaRight" fmla="*/ 3200040 w 3200400"/>
              <a:gd name="textAreaTop" fmla="*/ 360 h 3924360"/>
              <a:gd name="textAreaBottom" fmla="*/ 3924000 h 3924360"/>
            </a:gdLst>
            <a:ahLst/>
            <a:rect l="textAreaLeft" t="textAreaTop" r="textAreaRight" b="textAreaBottom"/>
            <a:pathLst>
              <a:path w="21600" h="26486">
                <a:moveTo>
                  <a:pt x="10" y="0"/>
                </a:moveTo>
                <a:arcTo wR="10" hR="10" stAng="16200000" swAng="-5400000"/>
                <a:lnTo>
                  <a:pt x="0" y="26476"/>
                </a:lnTo>
                <a:arcTo wR="10" hR="10" stAng="10800000" swAng="-5400000"/>
                <a:lnTo>
                  <a:pt x="21590" y="26486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2925720"/>
            <a:ext cx="1736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XD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XD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PIO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PIO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2962440"/>
            <a:ext cx="17366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8400" y="2925720"/>
            <a:ext cx="1737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05640" y="3013200"/>
            <a:ext cx="1736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3.3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3.3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10960" y="3108240"/>
            <a:ext cx="12826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010960" y="3649680"/>
            <a:ext cx="1282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010960" y="4836960"/>
            <a:ext cx="12826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10960" y="5916600"/>
            <a:ext cx="1282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010960" y="6492960"/>
            <a:ext cx="1282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65840" y="429732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65840" y="6566040"/>
            <a:ext cx="10065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 Firmware NodeM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pen ESP8266Flasher.(x32) or (x6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DVANCED set Baudrate, Flash size, Flash speed, SPI Mo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03480" y="4022640"/>
            <a:ext cx="5437080" cy="317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75080" y="4846680"/>
            <a:ext cx="1736640" cy="1646280"/>
          </a:xfrm>
          <a:prstGeom prst="roundRect">
            <a:avLst>
              <a:gd name="adj" fmla="val 93"/>
            </a:avLst>
          </a:prstGeom>
          <a:noFill/>
          <a:ln w="5472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 Firmware NodeM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1320" y="2560680"/>
            <a:ext cx="530388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5576400" y="2651040"/>
            <a:ext cx="1374840" cy="457200"/>
          </a:xfrm>
          <a:prstGeom prst="line">
            <a:avLst/>
          </a:prstGeom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4600" y="4992840"/>
            <a:ext cx="2197080" cy="1440"/>
          </a:xfrm>
          <a:prstGeom prst="line">
            <a:avLst/>
          </a:prstGeom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86520" y="2389320"/>
            <a:ext cx="1335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72400" y="4792680"/>
            <a:ext cx="21938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mcu_float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.5_20150318.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 Firmware NodeM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936880"/>
            <a:ext cx="5456160" cy="318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3475080"/>
            <a:ext cx="1646280" cy="274680"/>
          </a:xfrm>
          <a:prstGeom prst="line">
            <a:avLst/>
          </a:prstGeom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040160" y="3932280"/>
            <a:ext cx="1282680" cy="1440"/>
          </a:xfrm>
          <a:prstGeom prst="line">
            <a:avLst/>
          </a:prstGeom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9560" y="3054240"/>
            <a:ext cx="8528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50200" y="3749760"/>
            <a:ext cx="16160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Flas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1480" y="6308640"/>
            <a:ext cx="73659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wait to Finish bootloading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bootload is done, disconnect GPIO0 and GPIO15 to the G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ES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nnectio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75080" y="2835360"/>
            <a:ext cx="3200400" cy="3924360"/>
          </a:xfrm>
          <a:custGeom>
            <a:avLst/>
            <a:gdLst>
              <a:gd name="textAreaLeft" fmla="*/ 360 w 3200400"/>
              <a:gd name="textAreaRight" fmla="*/ 3200040 w 3200400"/>
              <a:gd name="textAreaTop" fmla="*/ 360 h 3924360"/>
              <a:gd name="textAreaBottom" fmla="*/ 3924000 h 3924360"/>
            </a:gdLst>
            <a:ahLst/>
            <a:rect l="textAreaLeft" t="textAreaTop" r="textAreaRight" b="textAreaBottom"/>
            <a:pathLst>
              <a:path w="21600" h="26486">
                <a:moveTo>
                  <a:pt x="10" y="0"/>
                </a:moveTo>
                <a:arcTo wR="10" hR="10" stAng="16200000" swAng="-5400000"/>
                <a:lnTo>
                  <a:pt x="0" y="26476"/>
                </a:lnTo>
                <a:arcTo wR="10" hR="10" stAng="10800000" swAng="-5400000"/>
                <a:lnTo>
                  <a:pt x="21590" y="26486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925720"/>
            <a:ext cx="1736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XD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XD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PIO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962440"/>
            <a:ext cx="17366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05640" y="3013200"/>
            <a:ext cx="1736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3.3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3.3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010960" y="3108240"/>
            <a:ext cx="12826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010960" y="3649680"/>
            <a:ext cx="1282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10960" y="5376960"/>
            <a:ext cx="1282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010960" y="6492960"/>
            <a:ext cx="1282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5840" y="429732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65840" y="6566040"/>
            <a:ext cx="10065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400" y="2925720"/>
            <a:ext cx="1737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549360"/>
            <a:ext cx="6675480" cy="438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5889600"/>
            <a:ext cx="84628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m using +3v3 Power Supply of gizDuino. Not from the +3.3V of USB-to-T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er. Then Common G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240" y="5211720"/>
            <a:ext cx="8861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using the LED monitor of UMT Trainer for my experiment. The supply I used is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gizDuino Power (+5V dc) to power the U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Open ES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63760" y="1768320"/>
            <a:ext cx="6858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01:46:38Z</dcterms:created>
  <dc:creator/>
  <dc:description/>
  <dc:language>en-US</dc:language>
  <cp:lastModifiedBy/>
  <dcterms:modified xsi:type="dcterms:W3CDTF">2015-08-10T07:53:14Z</dcterms:modified>
  <cp:revision>68</cp:revision>
  <dc:subject/>
  <dc:title/>
</cp:coreProperties>
</file>