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1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80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07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24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F293D0-1833-46EE-8D80-E95592136AB6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307358D-B0A5-4124-968E-2C982F5C01C4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B5285D-4CFC-480C-85BB-2D3A93F17F72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8F8E70-AFDA-4C57-BBFE-52871BF686F4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41DB477-361C-43E5-BD27-D94CDA7AE8FE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62559F-7D78-4419-A50B-1371032234F9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DB931D-D94F-47D2-8E33-2998D0CB027A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F905D2-1551-4097-8F24-7150D9D433DA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27C2E7-4D4D-4274-9D26-04A91F8E2239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42A196-D7E1-4B1D-8DA6-71E0C83AE1AF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2A9FED-1521-43F0-A97D-A3FBF736009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DFAB3D-A5C0-47FD-B1A7-0EA54C0004D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A96661-585F-4881-83DA-0DFDF18798D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D26403-EF96-4384-B35C-8F19D0902E70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E40AD8-3E27-4720-A1C2-24B5894B7F3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14BF90-EE67-43AB-AA0D-AA88B81231B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A1A77C-CA18-4D79-A1F6-3757DBA52A51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6D79F3-715E-4AAA-AAA8-B04B8480C1CF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0ECF6E-DCCA-4D47-A0E1-7FED4451E42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66F45B-F4AA-4322-883B-7BCE6B36849A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DBBF0E-5378-4DEE-A5C5-5EC6F09375AC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03EB3F-25E7-4A96-A9C2-55C2381D820F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5399C4-E543-4E8B-99D3-DF44ABD399BE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30D8BE-CDA3-47FE-9342-9F26BEB31950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00856C-CA0F-4D63-9B25-1391C575EE76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3B201D-192E-406C-9B9C-348C4B5DE50C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9D1DC0-B40F-4D82-B596-259AF6098A66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4588EF-64BF-484C-A1B1-DE3A34DBAB17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B47943-6A7E-4FEC-9ACB-AA6308FA318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56FC38-64BE-4503-9572-DC0A66511C74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863FB16-D239-4CA1-AA33-3D7C3D3831AD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DF2E85-ED5A-4780-8796-CDB15AC4B29C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BE9657-77F1-4C63-B9F9-7D3993616C4C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C4D45A-1EA6-4654-9929-9EA3D4AA869A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35A40D-5429-4802-824A-FED8C74D3673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398840" y="9555120"/>
            <a:ext cx="336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912613-37F0-4276-A727-A68D5DB3350B}" type="slidenum">
              <a:rPr b="0" lang="en-PH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CBE-99D7-412E-AFA5-ABB321D7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07D-9395-4075-A026-E51E5530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EE4-5DCF-437A-808A-587B5FA8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DA9F-06E7-476C-B1D4-A7BFD377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C9B8-6820-4214-A630-C86240E9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550-7DC0-4B75-A556-B9853279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BAD-A93E-4088-8415-9B264424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0E8-37A6-4256-A02B-B629639C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16D-9625-4D9F-94A8-EA6841DE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880-8E37-4605-A533-20740BA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77C-E7C7-4E42-86D9-07BBD7B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AAC-7F45-4279-ABF6-AF7CF95F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PH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E7896B-72C8-4325-96AE-4FA1DF78EE03}" type="slidenum">
              <a:rPr b="0" lang="en-PH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duino.cc/" TargetMode="External"/><Relationship Id="rId2" Type="http://schemas.openxmlformats.org/officeDocument/2006/relationships/hyperlink" Target="http://www.e-gizmo.net/oc/kits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95280" y="169920"/>
            <a:ext cx="7272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MANUAL GU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079640" y="2198520"/>
            <a:ext cx="517680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ARI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PBot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Line fol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Maze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Sumo f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Wireless controlled: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Blueto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UHF/RF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with PS2 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Eth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Wi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NEW FEATURES: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with Ultrasonic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with EGRA (Robotic Ar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&gt; Arduino Expansion IO p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808080"/>
                </a:solidFill>
                <a:latin typeface="Bahnschrift"/>
              </a:rPr>
              <a:t>*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696000" y="5780160"/>
            <a:ext cx="1289160" cy="1288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7178760" y="5288040"/>
            <a:ext cx="22683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Included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- USB Cable Type A to mini 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2" descr="C:\Users\AMOR\Downloads\IMG_20231104_001908.png"/>
          <p:cNvPicPr/>
          <p:nvPr/>
        </p:nvPicPr>
        <p:blipFill>
          <a:blip r:embed="rId3"/>
          <a:stretch/>
        </p:blipFill>
        <p:spPr>
          <a:xfrm>
            <a:off x="4964040" y="1494000"/>
            <a:ext cx="4672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"/>
          <p:cNvSpPr/>
          <p:nvPr/>
        </p:nvSpPr>
        <p:spPr>
          <a:xfrm>
            <a:off x="849240" y="5761080"/>
            <a:ext cx="807732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Connect the PBOT to 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403280" y="1944720"/>
            <a:ext cx="4357800" cy="1336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258920" y="3672000"/>
            <a:ext cx="1765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USB Conn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4"/>
          <p:cNvSpPr/>
          <p:nvPr/>
        </p:nvSpPr>
        <p:spPr>
          <a:xfrm flipV="1">
            <a:off x="2592360" y="3271680"/>
            <a:ext cx="5763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168720" y="338472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024360" y="3743280"/>
            <a:ext cx="647640" cy="503280"/>
          </a:xfrm>
          <a:prstGeom prst="rect">
            <a:avLst/>
          </a:prstGeom>
          <a:solidFill>
            <a:srgbClr val="3333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3240000" y="4248000"/>
            <a:ext cx="792360" cy="1008360"/>
          </a:xfrm>
          <a:custGeom>
            <a:avLst/>
            <a:gdLst>
              <a:gd name="textAreaLeft" fmla="*/ 0 w 792360"/>
              <a:gd name="textAreaRight" fmla="*/ 792720 w 79236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841" h="854">
                <a:moveTo>
                  <a:pt x="517" y="247"/>
                </a:moveTo>
                <a:lnTo>
                  <a:pt x="517" y="415"/>
                </a:lnTo>
                <a:lnTo>
                  <a:pt x="264" y="415"/>
                </a:lnTo>
                <a:lnTo>
                  <a:pt x="264" y="0"/>
                </a:lnTo>
                <a:lnTo>
                  <a:pt x="0" y="0"/>
                </a:lnTo>
                <a:lnTo>
                  <a:pt x="0" y="680"/>
                </a:lnTo>
                <a:lnTo>
                  <a:pt x="517" y="680"/>
                </a:lnTo>
                <a:lnTo>
                  <a:pt x="517" y="854"/>
                </a:lnTo>
                <a:lnTo>
                  <a:pt x="841" y="547"/>
                </a:lnTo>
                <a:lnTo>
                  <a:pt x="517" y="247"/>
                </a:lnTo>
                <a:close/>
              </a:path>
            </a:pathLst>
          </a:custGeom>
          <a:solidFill>
            <a:srgbClr val="1c1c1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3946680" y="3335400"/>
            <a:ext cx="3396960" cy="2351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5240160" y="3600360"/>
            <a:ext cx="808200" cy="1011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1800360" y="4767120"/>
            <a:ext cx="1307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USB C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191360" y="3975120"/>
            <a:ext cx="2095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Open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25560" y="58374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: Even if your device (PBOT) is OFF you can upload the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onnect the USB cable to your laptop and into the de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5"/>
          <p:cNvSpPr/>
          <p:nvPr/>
        </p:nvSpPr>
        <p:spPr>
          <a:xfrm>
            <a:off x="773280" y="1341360"/>
            <a:ext cx="80769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Board Sel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49240" y="14176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! PBOT UNO has ATMEGA328P or ARDUINO UNO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8" descr="C:\Users\AMOR\Pictures\Screenshots\Screenshot (88).png"/>
          <p:cNvPicPr/>
          <p:nvPr/>
        </p:nvPicPr>
        <p:blipFill>
          <a:blip r:embed="rId1"/>
          <a:stretch/>
        </p:blipFill>
        <p:spPr>
          <a:xfrm>
            <a:off x="1001880" y="2408400"/>
            <a:ext cx="7270560" cy="1981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1001880" y="47703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 Board&gt;Arduino AVR Boards&gt;Arduino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773280" y="5684760"/>
            <a:ext cx="80769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73280" y="1341360"/>
            <a:ext cx="807696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elect the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49240" y="14176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ew Features! Serial Port detects if connected while the device is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01880" y="47703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 Port&gt; COM 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9" descr="C:\Users\AMOR\Pictures\Screenshots\Screenshot (89).png"/>
          <p:cNvPicPr/>
          <p:nvPr/>
        </p:nvPicPr>
        <p:blipFill>
          <a:blip r:embed="rId1"/>
          <a:stretch/>
        </p:blipFill>
        <p:spPr>
          <a:xfrm>
            <a:off x="1306440" y="2332080"/>
            <a:ext cx="6585120" cy="106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849240" y="57610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roublesho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 port? – Install first the Prolific Driv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r go to Device Manager&gt; Scan for new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7" descr="C:\Users\AMOR\Pictures\Screenshots\Screenshot (87).png"/>
          <p:cNvPicPr/>
          <p:nvPr/>
        </p:nvPicPr>
        <p:blipFill>
          <a:blip r:embed="rId1"/>
          <a:stretch/>
        </p:blipFill>
        <p:spPr>
          <a:xfrm>
            <a:off x="1001880" y="2179800"/>
            <a:ext cx="335268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Line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For line foll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18960" y="1157400"/>
            <a:ext cx="52959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Line Follower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92040" y="4389480"/>
            <a:ext cx="53546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2. Board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Boards&gt;Arduino AVR Boards&gt; Arduino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264360" y="1871640"/>
            <a:ext cx="3384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3. Port sel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Tools&gt;Port&gt;COM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lect the correc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Device 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you're not 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4506840" y="3246480"/>
            <a:ext cx="426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2830680" y="3170160"/>
            <a:ext cx="1641240" cy="228600"/>
          </a:xfrm>
          <a:prstGeom prst="roundRect">
            <a:avLst>
              <a:gd name="adj" fmla="val 579"/>
            </a:avLst>
          </a:prstGeom>
          <a:noFill/>
          <a:ln w="183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C:\Users\AMOR\Pictures\Screenshots\Screenshot (88).png"/>
          <p:cNvPicPr/>
          <p:nvPr/>
        </p:nvPicPr>
        <p:blipFill>
          <a:blip r:embed="rId2"/>
          <a:stretch/>
        </p:blipFill>
        <p:spPr>
          <a:xfrm>
            <a:off x="1077840" y="5227560"/>
            <a:ext cx="727092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C:\Users\AMOR\Pictures\Screenshots\Screenshot (89).png"/>
          <p:cNvPicPr/>
          <p:nvPr/>
        </p:nvPicPr>
        <p:blipFill>
          <a:blip r:embed="rId3"/>
          <a:stretch/>
        </p:blipFill>
        <p:spPr>
          <a:xfrm>
            <a:off x="5268960" y="3398760"/>
            <a:ext cx="470376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525636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1,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57120" y="1119240"/>
            <a:ext cx="5691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After uploading your code for linesen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FF the POWER switc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52360" y="3560760"/>
            <a:ext cx="3076920" cy="990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60360" y="2952720"/>
            <a:ext cx="56912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2. Place the eGizmo PBOT controller to the "bl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"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1728720" y="1668600"/>
            <a:ext cx="1382760" cy="1176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647640" y="2268360"/>
            <a:ext cx="100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Arial"/>
              </a:rPr>
              <a:t>Turn Of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92000" y="3564000"/>
            <a:ext cx="39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20720" y="5724360"/>
            <a:ext cx="39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"/>
          <p:cNvPicPr/>
          <p:nvPr/>
        </p:nvPicPr>
        <p:blipFill>
          <a:blip r:embed="rId3"/>
          <a:stretch/>
        </p:blipFill>
        <p:spPr>
          <a:xfrm>
            <a:off x="6621480" y="2390760"/>
            <a:ext cx="998640" cy="849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5972040" y="2535120"/>
            <a:ext cx="409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7701120" y="2751120"/>
            <a:ext cx="1011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Arial"/>
              </a:rPr>
              <a:t>Turn 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47640" y="4824360"/>
            <a:ext cx="56912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ress and Hold LINE CAL and SYS 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le pressing and holding the button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688000" y="2016000"/>
            <a:ext cx="403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N the POWER Swit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"/>
          <p:cNvPicPr/>
          <p:nvPr/>
        </p:nvPicPr>
        <p:blipFill>
          <a:blip r:embed="rId4"/>
          <a:stretch/>
        </p:blipFill>
        <p:spPr>
          <a:xfrm>
            <a:off x="1284120" y="5734080"/>
            <a:ext cx="361188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5724360" y="3743280"/>
            <a:ext cx="40323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N2 (D12 LED indicator) is 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5"/>
          <a:stretch/>
        </p:blipFill>
        <p:spPr>
          <a:xfrm>
            <a:off x="6802560" y="4208400"/>
            <a:ext cx="133344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759280" y="754200"/>
            <a:ext cx="90712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73120" y="1585800"/>
            <a:ext cx="53528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3. First RELEASE the SYS RST followed by LINE 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ake sure the 3CH Line sensors are faces on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"black line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89120" y="4319640"/>
            <a:ext cx="4035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d you will see the LN1 and LN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D11 and D13 LED indicators) 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N and LN1 is blin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829480" y="3511440"/>
            <a:ext cx="4035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w Press LINE CAL 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or the black color calib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368360" y="2606760"/>
            <a:ext cx="3551400" cy="156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1800360" y="5400720"/>
            <a:ext cx="1333440" cy="1493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3"/>
          <a:stretch/>
        </p:blipFill>
        <p:spPr>
          <a:xfrm>
            <a:off x="5616720" y="4329000"/>
            <a:ext cx="3611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525636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CALIBRATION 4,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440000" y="4089240"/>
            <a:ext cx="2879640" cy="95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1139760" y="6058080"/>
            <a:ext cx="3611520" cy="114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428760" y="1370160"/>
            <a:ext cx="4794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4. Next, if the L3 (D13 LED indicator) is blin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3"/>
          <a:stretch/>
        </p:blipFill>
        <p:spPr>
          <a:xfrm>
            <a:off x="1944720" y="1728720"/>
            <a:ext cx="1333440" cy="1263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396720" y="3456000"/>
            <a:ext cx="5158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lace the 3CH Line sensors on the "White track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20720" y="5257800"/>
            <a:ext cx="4145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n Press LINE CAL again once for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te color calibr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5975280" y="2270160"/>
            <a:ext cx="403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fter that you will see all the L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or linesensors are ON then it w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urn Of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4"/>
          <a:stretch/>
        </p:blipFill>
        <p:spPr>
          <a:xfrm>
            <a:off x="7101000" y="3392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5724360" y="5111640"/>
            <a:ext cx="41403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5. Now your eGizmo PBOT Controll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sensors  are calibrated. T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ress the RESET button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witch off and turn ON aga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ou can now  trace the line and D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99ff"/>
                </a:solidFill>
                <a:latin typeface="Geometr415 Blk BT"/>
              </a:rPr>
              <a:t>LINE FOLLOWER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152360" y="2016000"/>
            <a:ext cx="38354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1_LEFT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3_RIGHT</a:t>
            </a:r>
            <a:r>
              <a:rPr b="1" lang="en-PH" sz="1800" spc="-1" strike="noStrike">
                <a:solidFill>
                  <a:srgbClr val="99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>
                <a:solidFill>
                  <a:srgbClr val="996600"/>
                </a:solidFill>
                <a:latin typeface="Bahnschrift"/>
              </a:rPr>
              <a:t>WHITE LINE DETECTED = 0 or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ACK LINE DETECTED = 1 or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230480" y="5151600"/>
            <a:ext cx="65102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LS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== HIGH) //  if line sensor 2 center is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“Black line detected!”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335640" y="2044800"/>
            <a:ext cx="2519280" cy="1195200"/>
          </a:xfrm>
          <a:prstGeom prst="rect">
            <a:avLst/>
          </a:prstGeom>
          <a:ln w="0">
            <a:noFill/>
          </a:ln>
        </p:spPr>
      </p:pic>
      <p:sp>
        <p:nvSpPr>
          <p:cNvPr id="190" name="Line 5"/>
          <p:cNvSpPr/>
          <p:nvPr/>
        </p:nvSpPr>
        <p:spPr>
          <a:xfrm flipV="1">
            <a:off x="6119640" y="3228840"/>
            <a:ext cx="503280" cy="30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 flipV="1">
            <a:off x="7632720" y="3228840"/>
            <a:ext cx="144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 flipV="1">
            <a:off x="8629560" y="3228840"/>
            <a:ext cx="525600" cy="45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749920" y="3672000"/>
            <a:ext cx="585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343640" y="3887640"/>
            <a:ext cx="586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8928000" y="3743280"/>
            <a:ext cx="760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LS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216000" y="2160720"/>
            <a:ext cx="4174920" cy="31082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ffcc00"/>
                </a:solidFill>
                <a:latin typeface="Geometr415 Blk BT"/>
              </a:rPr>
              <a:t>CONNECTION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265720" y="2054160"/>
            <a:ext cx="5029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OR WIRE CONNECTIONS (P2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1 – 1A,1B ; MOT2 – 2A,2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4716360" y="216072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5616720" y="2952720"/>
            <a:ext cx="2832120" cy="4032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"/>
          <p:cNvSpPr/>
          <p:nvPr/>
        </p:nvSpPr>
        <p:spPr>
          <a:xfrm>
            <a:off x="4608360" y="3173400"/>
            <a:ext cx="5029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1 =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ue-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ellow-U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330800" y="5268960"/>
            <a:ext cx="50292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T 2 =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reen-Upp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lack-Bot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584360" y="6558120"/>
            <a:ext cx="5029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*Please don not depends on the color of the wi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Follow the location of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7" descr="C:\Users\AMOR\Pictures\Screenshots\Screenshot (90).png"/>
          <p:cNvPicPr/>
          <p:nvPr/>
        </p:nvPicPr>
        <p:blipFill>
          <a:blip r:embed="rId1"/>
          <a:stretch/>
        </p:blipFill>
        <p:spPr>
          <a:xfrm>
            <a:off x="2068560" y="3017880"/>
            <a:ext cx="4495680" cy="2719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MotorTest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irection/Spe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73280" y="1798560"/>
            <a:ext cx="57290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Motor controls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Motor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5040360" y="4770360"/>
            <a:ext cx="160668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6640560" y="492300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DESCRI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47640" y="1941480"/>
            <a:ext cx="25192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ARIA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Pbot 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Line fol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Maze Sol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 Sumo f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&gt;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- Add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- Add 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mo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795760" y="2193840"/>
            <a:ext cx="71434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t is an upgraded version Pbot UNO Atmega328P, that's all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 users to use the Arduino UNO board and add mor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d module whatever you lik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follow the black line on the track from start to finish line. It h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gital line calibration to make it ea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solve the maze courses, you can upload the sketch given or modif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t to remote control via wireless devices (Optiona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o fight with other opponents robots with in the ring, it has lin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side avoid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you can add bluetooth, PS2 controller with UHF STD, Ethern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ifi to control it wireless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Built-in 4-servo slots for EGRA Robotic Ar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639720" y="5761080"/>
            <a:ext cx="7680240" cy="1554120"/>
          </a:xfrm>
          <a:prstGeom prst="flowChartAlternateProcess">
            <a:avLst/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32220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ff9900"/>
                </a:solidFill>
                <a:latin typeface="Geometr415 Blk BT"/>
              </a:rPr>
              <a:t>MOTOR CONTROL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1368360"/>
            <a:ext cx="577692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t motor direc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RECTION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whichmoto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,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di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motor = MOTOR_A or MOTOR_B, MOTOR_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r =  MOTOR_FWD,MOTOR_R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69840" y="5832360"/>
            <a:ext cx="6591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RECTION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MOTOR_BOTH, MOTOR_FWD); </a:t>
            </a:r>
            <a:r>
              <a:rPr b="1" lang="en-PH" sz="1800" spc="-1" strike="noStrike">
                <a:solidFill>
                  <a:srgbClr val="999999"/>
                </a:solidFill>
                <a:latin typeface="Bahnschrift"/>
              </a:rPr>
              <a:t>// Move For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MOTOR_BOTH, 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80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28480" y="3887640"/>
            <a:ext cx="685008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t motor spe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</a:t>
            </a:r>
            <a:r>
              <a:rPr b="1" lang="en-PH" sz="1800" spc="-1" strike="noStrike">
                <a:solidFill>
                  <a:srgbClr val="666666"/>
                </a:solidFill>
                <a:latin typeface="Bahnschrift"/>
              </a:rPr>
              <a:t>whichmoto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,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speed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motor = MOTOR_A or MOTOR_B, MOTOR_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peed =  0 to 255, 0 = Full Stop, 80 = Neutral,255 = High, limit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6900840" y="144144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MAZE/SU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33"/>
                </a:solidFill>
                <a:latin typeface="Geometr415 Blk BT"/>
              </a:rPr>
              <a:t>IR SENSORS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540240" y="205416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RECEIVERS 38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U5, U6, U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744480" y="1871640"/>
            <a:ext cx="1919520" cy="554364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2952720" y="2054160"/>
            <a:ext cx="360360" cy="360360"/>
          </a:xfrm>
          <a:prstGeom prst="ellipse">
            <a:avLst/>
          </a:prstGeom>
          <a:noFill/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952720" y="2808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noFill/>
          <a:ln w="3600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3540240" y="2774880"/>
            <a:ext cx="3295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LED TRASM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D17, D18, D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 Distance Range: 2 – 4 in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024360" y="3995640"/>
            <a:ext cx="431640" cy="28728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527280" y="4033800"/>
            <a:ext cx="3802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R LED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COL1 (D14), COL2 (D15), COL3 (D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N, Object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FF, No object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7" descr="C:\Users\AMOR\Pictures\Screenshots\Screenshot (91).png"/>
          <p:cNvPicPr/>
          <p:nvPr/>
        </p:nvPicPr>
        <p:blipFill>
          <a:blip r:embed="rId1"/>
          <a:stretch/>
        </p:blipFill>
        <p:spPr>
          <a:xfrm>
            <a:off x="2144880" y="3017880"/>
            <a:ext cx="5105160" cy="2995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Sumo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Sumo F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1001880" y="1874880"/>
            <a:ext cx="501804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Sumo fighting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Su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5421240" y="5532480"/>
            <a:ext cx="19051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9"/>
          <p:cNvSpPr/>
          <p:nvPr/>
        </p:nvSpPr>
        <p:spPr>
          <a:xfrm flipH="1">
            <a:off x="7402680" y="5684760"/>
            <a:ext cx="450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cc00"/>
                </a:solidFill>
                <a:latin typeface="Geometr415 Blk BT"/>
              </a:rPr>
              <a:t>IR SENSORS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152360" y="201600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1_RIGHT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3_LEFT</a:t>
            </a:r>
            <a:r>
              <a:rPr b="1" lang="en-PH" sz="1800" spc="-1" strike="noStrike">
                <a:solidFill>
                  <a:srgbClr val="99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>
                <a:solidFill>
                  <a:srgbClr val="ff9900"/>
                </a:solidFill>
                <a:latin typeface="Bahnschrift"/>
              </a:rPr>
              <a:t>NO OBJECT DETECTED = 0 or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BJECT DETECTED = 1 or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224000" y="525636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COL2_CENTER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== HIGH) //  if IR sensor 2 center is hi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“Object detected!”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832360" y="1944720"/>
            <a:ext cx="3675240" cy="2663640"/>
          </a:xfrm>
          <a:prstGeom prst="rect">
            <a:avLst/>
          </a:prstGeom>
          <a:ln w="0">
            <a:noFill/>
          </a:ln>
        </p:spPr>
      </p:pic>
      <p:sp>
        <p:nvSpPr>
          <p:cNvPr id="237" name="Line 5"/>
          <p:cNvSpPr/>
          <p:nvPr/>
        </p:nvSpPr>
        <p:spPr>
          <a:xfrm>
            <a:off x="6983280" y="3311640"/>
            <a:ext cx="93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 flipV="1">
            <a:off x="6624720" y="1572840"/>
            <a:ext cx="5032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6767640" y="4608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415280" y="2735280"/>
            <a:ext cx="503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000" spc="-1" strike="noStrike">
                <a:solidFill>
                  <a:srgbClr val="ff3333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2" descr="D:\1AAAAAAAAAAA\MY PC 2023 FILES\NEW PBOT UNO\PBOTUNO2020\NEW MODIFIED 110323\servo.png"/>
          <p:cNvPicPr/>
          <p:nvPr/>
        </p:nvPicPr>
        <p:blipFill>
          <a:blip r:embed="rId1"/>
          <a:stretch/>
        </p:blipFill>
        <p:spPr>
          <a:xfrm>
            <a:off x="7097760" y="2174760"/>
            <a:ext cx="2743200" cy="5384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ERVO MO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619520" y="2054160"/>
            <a:ext cx="2291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vo labels  #1-#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3816360" y="2052720"/>
            <a:ext cx="719280" cy="360360"/>
          </a:xfrm>
          <a:prstGeom prst="ellipse">
            <a:avLst/>
          </a:prstGeom>
          <a:solidFill>
            <a:srgbClr val="6666ff"/>
          </a:solidFill>
          <a:ln w="360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619520" y="2774880"/>
            <a:ext cx="31640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vo connectors f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3 - P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9" descr=""/>
          <p:cNvPicPr/>
          <p:nvPr/>
        </p:nvPicPr>
        <p:blipFill>
          <a:blip r:embed="rId2"/>
          <a:stretch/>
        </p:blipFill>
        <p:spPr>
          <a:xfrm>
            <a:off x="544680" y="1874880"/>
            <a:ext cx="3208320" cy="5421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3887640" y="2808360"/>
            <a:ext cx="576360" cy="360360"/>
          </a:xfrm>
          <a:prstGeom prst="rect">
            <a:avLst/>
          </a:prstGeom>
          <a:solidFill>
            <a:srgbClr val="ffd32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7" descr="C:\Users\AMOR\Pictures\Screenshots\Screenshot (92).png"/>
          <p:cNvPicPr/>
          <p:nvPr/>
        </p:nvPicPr>
        <p:blipFill>
          <a:blip r:embed="rId1"/>
          <a:stretch/>
        </p:blipFill>
        <p:spPr>
          <a:xfrm>
            <a:off x="1839960" y="3170160"/>
            <a:ext cx="5105520" cy="3006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Servo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Servo Contr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Servo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Ser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116680" y="5380200"/>
            <a:ext cx="16063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6834240" y="552456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SERVO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925560" y="202716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whichSERVO,pulsewidth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ichservo = 1 to 4, ignore other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ulsewidth =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 0 to 180 (degre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value less than 500 stops the Servo PW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the pulsewidth converted to degrees from 0 to 180 (defaul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224000" y="475632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1, 15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SERVo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1, 90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752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rduino Shie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66ff"/>
                </a:solidFill>
                <a:latin typeface="Geometr415 Blk BT"/>
              </a:rPr>
              <a:t>Accessible P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546440" y="2741760"/>
            <a:ext cx="37324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O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0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to IO</a:t>
            </a: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17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(18 Digital P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3333ff"/>
                </a:solidFill>
                <a:latin typeface="Bahnschrift"/>
              </a:rPr>
              <a:t>A0</a:t>
            </a:r>
            <a:r>
              <a:rPr b="1" lang="en-PH" sz="1800" spc="-1" strike="noStrike">
                <a:solidFill>
                  <a:srgbClr val="111111"/>
                </a:solidFill>
                <a:latin typeface="Bahnschrift"/>
              </a:rPr>
              <a:t>-</a:t>
            </a:r>
            <a:r>
              <a:rPr b="1" lang="en-PH" sz="1800" spc="-1" strike="noStrike">
                <a:solidFill>
                  <a:srgbClr val="3333ff"/>
                </a:solidFill>
                <a:latin typeface="Bahnschrift"/>
              </a:rPr>
              <a:t>A3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(4 Analog Input p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* A4 and A5 are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4211640" y="2879640"/>
            <a:ext cx="333360" cy="144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2"/>
          <a:stretch/>
        </p:blipFill>
        <p:spPr>
          <a:xfrm>
            <a:off x="4308480" y="182520"/>
            <a:ext cx="1087560" cy="1087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3"/>
          <a:stretch/>
        </p:blipFill>
        <p:spPr>
          <a:xfrm>
            <a:off x="606600" y="2160720"/>
            <a:ext cx="3416040" cy="42242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4405320" y="2011320"/>
            <a:ext cx="37321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 you can add Bluetooth Shield or 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952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terface sh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9400" y="3398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Distance sensor pin slot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 - Hardware Serial pin s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666ff"/>
                </a:solidFill>
                <a:latin typeface="Geometr415 Blk BT"/>
              </a:rPr>
              <a:t>Additional Features on 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C:\Users\AMOR\Downloads\distance.png"/>
          <p:cNvPicPr/>
          <p:nvPr/>
        </p:nvPicPr>
        <p:blipFill>
          <a:blip r:embed="rId1"/>
          <a:stretch/>
        </p:blipFill>
        <p:spPr>
          <a:xfrm>
            <a:off x="7097760" y="2408400"/>
            <a:ext cx="2770200" cy="30081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DISTANC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192640" y="355140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J1 --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 --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CH --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RI   -- Trig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+5V  -- 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7" descr="C:\Users\AMOR\Downloads\IMG_20231104_001545.jpg"/>
          <p:cNvPicPr/>
          <p:nvPr/>
        </p:nvPicPr>
        <p:blipFill>
          <a:blip r:embed="rId2"/>
          <a:stretch/>
        </p:blipFill>
        <p:spPr>
          <a:xfrm>
            <a:off x="-219852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1459080" y="65232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stance Sensor S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3592440" y="3398760"/>
            <a:ext cx="990720" cy="1067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5040360" y="347508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U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93560" y="1041480"/>
            <a:ext cx="907128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2360" y="2120760"/>
            <a:ext cx="50515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General Specifica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dddddd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Battery: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2)3.7V Li-ion 1000m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  <a:ea typeface="Microsoft YaHei"/>
              </a:rPr>
              <a:t>rechargeable w/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3333"/>
                </a:solidFill>
                <a:latin typeface="Bahnschrift"/>
              </a:rPr>
              <a:t>On-board Peripheral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C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tmega328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w/ 32KB Flash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Original ATMEL IC ATA6614Q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C L9110S Dual Channel PWM Motor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2-Ch DC Motor 6V geared 1.5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3-Ch IR line sensor CNY70,10mm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3-Ch IR proximity sensor 2-4inches r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1 slot for HC-SR04 Ultrason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istanc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1 slot for Wireless module 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Via Serial Communication (e.g Bluetoo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CB Dimensions: 62 mm x 67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* </a:t>
            </a: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Note: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Analog pins A4 and A5 are used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terface with the system controller, h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re not available for user shields/applic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5040360" y="2216160"/>
            <a:ext cx="470700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Featu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Efficient Motor Driver circuitry en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he operation of motor to its maximum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t the same time eliminating the need f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n heats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On board 4 ch servo motor driver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Sensor managed by independent 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Collision sensor are pulsed to saved batt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o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Line sensors are digitally calibrated m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alibration process delightfully ea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rduino UNO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Program it using Arduino IDE 100%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2-3 hours full char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</a:t>
            </a:r>
            <a:r>
              <a:rPr b="1" lang="en-PH" sz="1800" spc="-1" strike="noStrike" u="sng">
                <a:solidFill>
                  <a:srgbClr val="000000"/>
                </a:solidFill>
                <a:uFillTx/>
                <a:latin typeface="Bahnschrift"/>
              </a:rPr>
              <a:t>Arduino external I/O pin l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ayout allows you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lug in any Arduino compatible Shield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5094360" y="1152360"/>
            <a:ext cx="102528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Users\AMOR\Pictures\Screenshots\Screenshot (93).png"/>
          <p:cNvPicPr/>
          <p:nvPr/>
        </p:nvPicPr>
        <p:blipFill>
          <a:blip r:embed="rId1"/>
          <a:stretch/>
        </p:blipFill>
        <p:spPr>
          <a:xfrm>
            <a:off x="2525760" y="3322800"/>
            <a:ext cx="4995720" cy="28954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DistanceSensor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5472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istance Sen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Distance sensor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Distance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802480" y="3855960"/>
            <a:ext cx="160632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7520040" y="4000680"/>
            <a:ext cx="45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DISTANC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152360" y="2016000"/>
            <a:ext cx="37386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STANC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Reading the distance sen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RAN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	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etting the data in Centimeter/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224000" y="475632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DISTANC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(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(“Measure in cm = “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PBot.</a:t>
            </a:r>
            <a:r>
              <a:rPr b="1" lang="en-PH" sz="1800" spc="-1" strike="noStrike">
                <a:solidFill>
                  <a:srgbClr val="0066ff"/>
                </a:solidFill>
                <a:latin typeface="Bahnschrift"/>
              </a:rPr>
              <a:t>RANGE</a:t>
            </a:r>
            <a:r>
              <a:rPr b="1" lang="en-PH" sz="1800" spc="-1" strike="noStrike">
                <a:solidFill>
                  <a:srgbClr val="cc0000"/>
                </a:solidFill>
                <a:latin typeface="Bahnschrift"/>
              </a:rPr>
              <a:t>)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elay(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BT CONTROLLED via S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79200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66ff"/>
                </a:solidFill>
                <a:latin typeface="Geometr415 Blk BT"/>
              </a:rPr>
              <a:t>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154160" y="4694400"/>
            <a:ext cx="229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IRELESS –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RXD --  Recei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TXD  -- Transmi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 -- Grou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+5V  –- V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C:\Users\AMOR\Downloads\IMG_20231104_001545.jpg"/>
          <p:cNvPicPr/>
          <p:nvPr/>
        </p:nvPicPr>
        <p:blipFill>
          <a:blip r:embed="rId1"/>
          <a:stretch/>
        </p:blipFill>
        <p:spPr>
          <a:xfrm>
            <a:off x="5345280" y="2637000"/>
            <a:ext cx="7119720" cy="441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4964040" y="4618080"/>
            <a:ext cx="990720" cy="1066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3814920" y="4923000"/>
            <a:ext cx="99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2" descr="C:\Users\AMOR\Downloads\Bluetooth.png"/>
          <p:cNvPicPr/>
          <p:nvPr/>
        </p:nvPicPr>
        <p:blipFill>
          <a:blip r:embed="rId2"/>
          <a:stretch/>
        </p:blipFill>
        <p:spPr>
          <a:xfrm>
            <a:off x="620640" y="1874880"/>
            <a:ext cx="4335480" cy="26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AMOR\Pictures\Screenshots\Screenshot (94).png"/>
          <p:cNvPicPr/>
          <p:nvPr/>
        </p:nvPicPr>
        <p:blipFill>
          <a:blip r:embed="rId1"/>
          <a:stretch/>
        </p:blipFill>
        <p:spPr>
          <a:xfrm>
            <a:off x="2220840" y="3398760"/>
            <a:ext cx="5029200" cy="291168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Uploading PBotBTControlled.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964040" y="8841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Wireless Conn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54160" y="2027160"/>
            <a:ext cx="6019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 the Arduino 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1. Bluetooth Control c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File&gt;Examples&gt;eGizmo_Pbot_Uno&gt;PBotBTControl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497560" y="3627360"/>
            <a:ext cx="1606680" cy="287280"/>
          </a:xfrm>
          <a:prstGeom prst="rect">
            <a:avLst/>
          </a:prstGeom>
          <a:noFill/>
          <a:ln w="936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9"/>
          <p:cNvSpPr/>
          <p:nvPr/>
        </p:nvSpPr>
        <p:spPr>
          <a:xfrm flipH="1">
            <a:off x="7214760" y="3772080"/>
            <a:ext cx="45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2920" y="6825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3333ff"/>
                </a:solidFill>
                <a:latin typeface="Geometr415 Blk BT"/>
              </a:rPr>
              <a:t>BLUETOOTH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"/>
          <p:cNvSpPr/>
          <p:nvPr/>
        </p:nvSpPr>
        <p:spPr>
          <a:xfrm>
            <a:off x="1154160" y="1722600"/>
            <a:ext cx="373860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YNT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Byte INPUT_FROM_ANDROID_AP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//Main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(Serial.available() &gt; 0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NPUT_FROM_ANDROID_APP = Serial.rea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Serial.println(INPUT_FROM_ANDROID_AP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154160" y="4389480"/>
            <a:ext cx="64944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XAMP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1) { } //UP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2) { } //DOWN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3) { } //LEF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4) { } //RIGHT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0) { } //STOP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7) { } //KICK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8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5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f (INPUT_FROM_ANDROID_APP == 16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2746440" cy="10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1123920" y="4319640"/>
            <a:ext cx="51404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Website:</a:t>
            </a:r>
            <a:r>
              <a:rPr b="1" lang="en-PH" sz="1800" spc="-1" strike="noStrike">
                <a:solidFill>
                  <a:srgbClr val="1c1c1c"/>
                </a:solidFill>
                <a:latin typeface="Bahnschrift"/>
              </a:rPr>
              <a:t> https://www.e-gizmo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Egizmo Tech blog:</a:t>
            </a:r>
            <a:r>
              <a:rPr b="1" lang="en-PH" sz="1800" spc="-1" strike="noStrike">
                <a:solidFill>
                  <a:srgbClr val="ccccff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https://www.</a:t>
            </a:r>
            <a:r>
              <a:rPr b="1" lang="en-PH" sz="1800" spc="-1" strike="noStrike">
                <a:solidFill>
                  <a:srgbClr val="333333"/>
                </a:solidFill>
                <a:latin typeface="Bahnschrift"/>
              </a:rPr>
              <a:t>e-gizmo.net/oc/index.php?route=journal3/b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Facebook: https://www.facebook.com/eGizmoMechatron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Youtube Channel: e-Gizmo Mechatronix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6280" indent="-206280">
              <a:lnSpc>
                <a:spcPct val="100000"/>
              </a:lnSpc>
              <a:tabLst>
                <a:tab algn="l" pos="0"/>
                <a:tab algn="l" pos="206280"/>
                <a:tab algn="l" pos="663480"/>
                <a:tab algn="l" pos="1120680"/>
                <a:tab algn="l" pos="1577880"/>
                <a:tab algn="l" pos="2035080"/>
                <a:tab algn="l" pos="2492280"/>
                <a:tab algn="l" pos="2949480"/>
                <a:tab algn="l" pos="3406680"/>
                <a:tab algn="l" pos="3863880"/>
                <a:tab algn="l" pos="4321080"/>
                <a:tab algn="l" pos="4778280"/>
                <a:tab algn="l" pos="5235480"/>
                <a:tab algn="l" pos="5692680"/>
                <a:tab algn="l" pos="6149880"/>
                <a:tab algn="l" pos="6607080"/>
                <a:tab algn="l" pos="7064280"/>
                <a:tab algn="l" pos="7521480"/>
                <a:tab algn="l" pos="7978680"/>
                <a:tab algn="l" pos="8435880"/>
                <a:tab algn="l" pos="8893080"/>
                <a:tab algn="l" pos="9350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2336760" y="2087640"/>
            <a:ext cx="2746440" cy="1006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1908000" y="3017880"/>
            <a:ext cx="1087560" cy="1087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3090960" y="276084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For more inf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39760" y="1224000"/>
            <a:ext cx="7680600" cy="636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MAJOR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Batte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AMOR\Downloads\IMG_20231104_001545.jpg"/>
          <p:cNvPicPr/>
          <p:nvPr/>
        </p:nvPicPr>
        <p:blipFill>
          <a:blip r:embed="rId3"/>
          <a:stretch/>
        </p:blipFill>
        <p:spPr>
          <a:xfrm>
            <a:off x="168768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459080" y="64468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It has now 2x slot for 3.7V Li-ion battery = 7.4V power supp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FF : Parallel batteries 3.7v to charg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ON: Series batteries 7.4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1382760" y="3627360"/>
            <a:ext cx="1143000" cy="2667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364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PBOT BOARD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03280" y="93672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Motor Driver L911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44360" y="1339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MOR\Downloads\IMG_20231104_001545.jpg"/>
          <p:cNvPicPr/>
          <p:nvPr/>
        </p:nvPicPr>
        <p:blipFill>
          <a:blip r:embed="rId3"/>
          <a:stretch/>
        </p:blipFill>
        <p:spPr>
          <a:xfrm>
            <a:off x="1687680" y="2027160"/>
            <a:ext cx="7119720" cy="441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59080" y="6523200"/>
            <a:ext cx="771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Modified L9110s 2-Channel Motor Driver with LED indica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830680" y="1951200"/>
            <a:ext cx="13716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68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LINE SEN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720720" y="89856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ccff"/>
                </a:solidFill>
                <a:latin typeface="Geometr415 Blk BT"/>
              </a:rPr>
              <a:t>LINE FOLLOWER CONNE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46440" y="2741760"/>
            <a:ext cx="37324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S CONNECTION (P7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                              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ND,DRV,LN3,LN2,LN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57720" y="5327640"/>
            <a:ext cx="26906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 ARRA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ff0000"/>
                </a:solidFill>
                <a:latin typeface="Bahnschrift"/>
              </a:rPr>
              <a:t>3 channel Line 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396720" y="1816200"/>
            <a:ext cx="3630600" cy="5311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546440" y="2054160"/>
            <a:ext cx="50292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CAL –</a:t>
            </a:r>
            <a:r>
              <a:rPr b="1" lang="en-PH" sz="12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for making line sensor calibrated as eas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                                    </a:t>
            </a:r>
            <a:r>
              <a:rPr b="1" lang="en-PH" sz="1400" spc="-1" strike="noStrike">
                <a:solidFill>
                  <a:srgbClr val="000000"/>
                </a:solidFill>
                <a:latin typeface="Bahnschrift"/>
              </a:rPr>
              <a:t>(to calibrate, read the page 9-1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4211640" y="216072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4211640" y="2879640"/>
            <a:ext cx="333360" cy="144720"/>
          </a:xfrm>
          <a:prstGeom prst="roundRect">
            <a:avLst>
              <a:gd name="adj" fmla="val 16667"/>
            </a:avLst>
          </a:prstGeom>
          <a:solidFill>
            <a:srgbClr val="00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4211640" y="3780000"/>
            <a:ext cx="333360" cy="144360"/>
          </a:xfrm>
          <a:prstGeom prst="roundRect">
            <a:avLst>
              <a:gd name="adj" fmla="val 16667"/>
            </a:avLst>
          </a:prstGeom>
          <a:solidFill>
            <a:srgbClr val="ffd32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0" y="3676680"/>
            <a:ext cx="3922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NE SENSOR LED INDICA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LN3(D13), LN2(D12),LN1(D1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N, black color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- if LED is OFF, white color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1" descr=""/>
          <p:cNvPicPr/>
          <p:nvPr/>
        </p:nvPicPr>
        <p:blipFill>
          <a:blip r:embed="rId2"/>
          <a:stretch/>
        </p:blipFill>
        <p:spPr>
          <a:xfrm>
            <a:off x="7129440" y="4967280"/>
            <a:ext cx="2411280" cy="244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3"/>
          <a:stretch/>
        </p:blipFill>
        <p:spPr>
          <a:xfrm>
            <a:off x="493560" y="169920"/>
            <a:ext cx="346572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Softwares and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685880"/>
            <a:ext cx="90709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Arduino IDE</a:t>
            </a: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Drivers </a:t>
            </a:r>
            <a:r>
              <a:rPr b="0" lang="en-PH" sz="2000" spc="-1" strike="noStrike">
                <a:solidFill>
                  <a:srgbClr val="66ccff"/>
                </a:solidFill>
                <a:latin typeface="Geometr415 Blk BT"/>
              </a:rPr>
              <a:t>Install this first!</a:t>
            </a:r>
            <a:br>
              <a:rPr sz="4400"/>
            </a:br>
            <a:br>
              <a:rPr sz="4400"/>
            </a:br>
            <a:r>
              <a:rPr b="0" lang="en-PH" sz="4400" spc="-1" strike="noStrike">
                <a:solidFill>
                  <a:srgbClr val="b2b2b2"/>
                </a:solidFill>
                <a:latin typeface="Geometr415 Blk BT"/>
              </a:rPr>
              <a:t>Library </a:t>
            </a:r>
            <a:r>
              <a:rPr b="0" lang="en-PH" sz="2000" spc="-1" strike="noStrike">
                <a:solidFill>
                  <a:srgbClr val="66ccff"/>
                </a:solidFill>
                <a:latin typeface="Geometr415 Blk BT"/>
              </a:rPr>
              <a:t>Add to My Documents&gt;Arduino&gt;libr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90520" y="2236680"/>
            <a:ext cx="669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Go to </a:t>
            </a:r>
            <a:r>
              <a:rPr b="0" lang="en-PH" sz="1800" spc="-1" strike="noStrike" u="sng">
                <a:solidFill>
                  <a:srgbClr val="ccccff"/>
                </a:solidFill>
                <a:uFillTx/>
                <a:latin typeface="Bahnschrift"/>
                <a:hlinkClick r:id="rId1"/>
              </a:rPr>
              <a:t>www.arduino.cc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&gt;Softw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Choose your Arduino IDE for your 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0360" y="3600360"/>
            <a:ext cx="669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800" spc="-1" strike="noStrike" u="sng">
                <a:solidFill>
                  <a:srgbClr val="ccccff"/>
                </a:solidFill>
                <a:uFillTx/>
                <a:latin typeface="Bahnschrift"/>
                <a:hlinkClick r:id="rId2"/>
              </a:rPr>
              <a:t>www.e-gizmo.net/oc/kits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documents/ARDUINO IDE SOFTW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 </a:t>
            </a: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ownload Prolific Driver v10.0 (Window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(For Mac OS users) Download md_PL2303_MacOS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90520" y="5045040"/>
            <a:ext cx="77151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Download eGizmo_Pbot_Uno (Unzip this before you move to librari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92720" y="3168720"/>
            <a:ext cx="3450960" cy="50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:\1AAAAAAAAAAA\MY PC 2023 FILES\NEW PBOT UNO\PBOTUNO2020\NEW MODIFIED 110323\lib.png"/>
          <p:cNvPicPr/>
          <p:nvPr/>
        </p:nvPicPr>
        <p:blipFill>
          <a:blip r:embed="rId4"/>
          <a:stretch/>
        </p:blipFill>
        <p:spPr>
          <a:xfrm>
            <a:off x="544680" y="5608800"/>
            <a:ext cx="26463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"/>
          <p:cNvSpPr/>
          <p:nvPr/>
        </p:nvSpPr>
        <p:spPr>
          <a:xfrm>
            <a:off x="925560" y="6751800"/>
            <a:ext cx="807732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56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Geometr415 Blk BT"/>
              </a:rPr>
              <a:t>eGizmo_Pbot_Un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68360" y="164628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Library folder should contains these examples ,src , utility, cpp , h, txt f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D:\1AAAAAAAAAAA\MY PC 2023 FILES\NEW PBOT UNO\PBOTUNO2020\NEW MODIFIED 110323\contains.png"/>
          <p:cNvPicPr/>
          <p:nvPr/>
        </p:nvPicPr>
        <p:blipFill>
          <a:blip r:embed="rId1"/>
          <a:stretch/>
        </p:blipFill>
        <p:spPr>
          <a:xfrm>
            <a:off x="2754360" y="2103480"/>
            <a:ext cx="3751200" cy="4343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49240" y="6827760"/>
            <a:ext cx="7715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216000" indent="-206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1800" spc="-1" strike="noStrike">
                <a:solidFill>
                  <a:srgbClr val="000000"/>
                </a:solidFill>
                <a:latin typeface="Bahnschrift"/>
              </a:rPr>
              <a:t>Note: Restart your IDE if you added new libraries in Arduino to recogniz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11:57:56Z</dcterms:created>
  <dc:creator/>
  <dc:description/>
  <dc:language>en-US</dc:language>
  <cp:lastModifiedBy>AMOR</cp:lastModifiedBy>
  <dcterms:modified xsi:type="dcterms:W3CDTF">2023-11-03T17:05:46Z</dcterms:modified>
  <cp:revision>236</cp:revision>
  <dc:subject/>
  <dc:title>Pbot UNO</dc:title>
</cp:coreProperties>
</file>